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D20-6E93-4216-A1F2-72805BC7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F23-C90D-49A7-A294-96B0AD93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8102-9FB8-4316-994B-DA88D75A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129-CA4C-407C-8210-346B7143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F23-8639-40C5-A4D5-5912F0AE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25C-792D-4DC8-A7A4-5B9608AC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00F-50CB-4E1E-8B90-C2580B3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213-6E62-4C6A-8BBA-50242367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2A6-CEC6-4C2B-8A4E-07A6D6C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5F3-CD56-4DD5-AED1-C510A6A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C53-5FC9-405C-AE39-161C20AA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363-3C31-466B-B447-9E39C0C1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2DF9-A8C1-4856-921D-9A6DEBA6E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276640"/>
            <a:ext cx="903240" cy="200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16000" y="404640"/>
            <a:ext cx="2438280" cy="1257480"/>
          </a:xfrm>
          <a:prstGeom prst="wedgeEllipseCallout">
            <a:avLst>
              <a:gd name="adj1" fmla="val -68828"/>
              <a:gd name="adj2" fmla="val 1171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413000"/>
            <a:ext cx="2664000" cy="1485720"/>
          </a:xfrm>
          <a:prstGeom prst="wedgeEllipseCallout">
            <a:avLst>
              <a:gd name="adj1" fmla="val -57986"/>
              <a:gd name="adj2" fmla="val 4679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852640"/>
            <a:ext cx="2438640" cy="1486080"/>
          </a:xfrm>
          <a:prstGeom prst="wedgeEllipseCallout">
            <a:avLst>
              <a:gd name="adj1" fmla="val -62944"/>
              <a:gd name="adj2" fmla="val -458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968720" y="333360"/>
            <a:ext cx="2438640" cy="1257480"/>
          </a:xfrm>
          <a:prstGeom prst="wedgeEllipseCallout">
            <a:avLst>
              <a:gd name="adj1" fmla="val 48750"/>
              <a:gd name="adj2" fmla="val 78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341360"/>
            <a:ext cx="2684520" cy="1486080"/>
          </a:xfrm>
          <a:prstGeom prst="wedgeEllipseCallout">
            <a:avLst>
              <a:gd name="adj1" fmla="val 67625"/>
              <a:gd name="adj2" fmla="val 589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88000" y="2565360"/>
            <a:ext cx="2566800" cy="1828800"/>
          </a:xfrm>
          <a:prstGeom prst="wedgeEllipseCallout">
            <a:avLst>
              <a:gd name="adj1" fmla="val 62120"/>
              <a:gd name="adj2" fmla="val -19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79640" y="4076640"/>
            <a:ext cx="2819160" cy="1600200"/>
          </a:xfrm>
          <a:prstGeom prst="wedgeEllipseCallout">
            <a:avLst>
              <a:gd name="adj1" fmla="val -54888"/>
              <a:gd name="adj2" fmla="val -691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35640" y="4149720"/>
            <a:ext cx="2819160" cy="1828800"/>
          </a:xfrm>
          <a:prstGeom prst="wedgeEllipseCallout">
            <a:avLst>
              <a:gd name="adj1" fmla="val 62231"/>
              <a:gd name="adj2" fmla="val -883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88360" y="2276640"/>
            <a:ext cx="900000" cy="194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-13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-91440"/>
            <a:ext cx="26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5157720"/>
            <a:ext cx="2438280" cy="1257480"/>
          </a:xfrm>
          <a:prstGeom prst="wedgeEllipseCallout">
            <a:avLst>
              <a:gd name="adj1" fmla="val -72398"/>
              <a:gd name="adj2" fmla="val -1183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76720" y="5157720"/>
            <a:ext cx="2438640" cy="1257480"/>
          </a:xfrm>
          <a:prstGeom prst="wedgeEllipseCallout">
            <a:avLst>
              <a:gd name="adj1" fmla="val 42773"/>
              <a:gd name="adj2" fmla="val -147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tes 1 febrero  Prepare and practise a simple conver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21:06:27Z</dcterms:created>
  <dc:creator>Katy Oliver</dc:creator>
  <dc:description/>
  <dc:language>en-US</dc:language>
  <cp:lastModifiedBy>Katy Oliver</cp:lastModifiedBy>
  <dcterms:modified xsi:type="dcterms:W3CDTF">2011-01-31T14:47:09Z</dcterms:modified>
  <cp:revision>2</cp:revision>
  <dc:subject/>
  <dc:title>Slide 1</dc:title>
</cp:coreProperties>
</file>